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93D3-6C35-43DB-A359-8C02B40B5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8B77-CE84-4EB8-A271-0EBA8FBBD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C228-FBEE-4FEF-AF7F-ABD0879A8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214F-55F6-4409-A017-3B7A5B642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79CA-84CA-4732-84B4-E215AC720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81AC-E7CF-43AA-8B0D-03152F44C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BEBA-44CA-42AF-B1D9-96EBF9640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81CF-09F2-4660-A0D6-7F9D07A92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5485-6825-4C26-A25C-46D1971D6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8359-032A-41BD-9982-D633646D5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63B1-435A-468C-83E9-3410993A1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463F-E2CF-47C2-9398-5DC424BF1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642054-5C25-4352-A675-183E8FD3B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тям о Великой Отечественной вой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09760" y="2136600"/>
            <a:ext cx="54291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2 июня 1941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ассвете 22 июня 1941 года началась Великая Отечественная война. Долгие 4 года до 9 мая 1945 года наши деды и прадеды боролись за освобождение родины от фашизма. Они делали это ради будущих поколений, ради нас. Давайте рассказывать об этой справедливой войне нашим детям и внукам, чтобы помн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400560" cy="4524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На фронт уходили и старые, и молоды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648320" y="1844640"/>
            <a:ext cx="40384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мужчин в возрасте от 23 до 36 лет уходили на фр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тар, и млад, все, кто мог держать в руках лопату, строили укрепления, копали окопы. Солдатам на фронте нужны мины, пушки, снаряды, пулемёты. Кто же будет их делать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на заводы пришли женщины и подростк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4038840" cy="3168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3886200" cy="3240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йна- это 900 дней и ночей блокадного Ленинграда. Это 125 граммов хлеба в сутки. Это тонны бомб и снарядов, падающих на мир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97708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го дня люди ждали 1418 дней. Более 27 млн. советских людей погибли в этой страшной войне. Почтим их память 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73800" y="4078440"/>
            <a:ext cx="237780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теран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клонимся велик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м год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м сла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андирам и бойц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аршалам стра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рядо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клоним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твым, и жи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м тем,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бывать нельз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клонимся, поклонимся, 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67344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3280" y="4078440"/>
            <a:ext cx="4038840" cy="189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9 мая мы празднуем День поб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848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12"/>
              </a:spcBef>
              <a:spcAft>
                <a:spcPts val="11"/>
              </a:spcAft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не будет войны никогда!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спокойные спят города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сирены пронзительный вой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Не звучит над моей головой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Ни один пусть не рвется снаряд,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Ни один не строчит автомат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оглашают наши леса 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Только птиц и детей голоса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И пусть мирно проходят года, 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не будет войны нико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3T10:57:49Z</dcterms:created>
  <dc:creator>User</dc:creator>
  <dc:description/>
  <dc:language>en-US</dc:language>
  <cp:lastModifiedBy/>
  <dcterms:modified xsi:type="dcterms:W3CDTF">2024-03-17T09:50:29Z</dcterms:modified>
  <cp:revision>5</cp:revision>
  <dc:subject/>
  <dc:title>Детям о Великой Отечественной войне</dc:title>
</cp:coreProperties>
</file>